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jetflyby.wav" ContentType="audio/x-wav"/>
  <Override PartName="/ppt/media/caralarmoff.wav" ContentType="audio/x-wav"/>
  <Override PartName="/ppt/media/CHIMES.WAV" ContentType="audio/x-wav"/>
  <Override PartName="/ppt/media/highchime.wav" ContentType="audio/x-wav"/>
  <Override PartName="/ppt/media/GUNSHOT.WAV" ContentType="audio/x-wav"/>
  <Override PartName="/ppt/media/zipdn102.wav" ContentType="audio/x-wav"/>
  <Override PartName="/ppt/media/zapbig0g.wav" ContentType="audio/x-wav"/>
  <Override PartName="/ppt/media/zapvib04.wav" ContentType="audio/x-wav"/>
  <Override PartName="/ppt/media/LASER.WAV" ContentType="audio/x-wav"/>
  <Override PartName="/ppt/media/helicopter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981-E8A4-4FCF-AA5B-29C02DC1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9EC-824D-4026-8EC1-5BD7A459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9E7-0727-46D0-B6D8-2CE30445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E6D-05C9-4919-AF34-5C5E57A6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FBD-10A0-477A-9025-6640A440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3F7-45CB-42EC-B5BF-00456D00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D9DB-FC57-4F93-AF40-4E960FFD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E6E-60BE-4119-BF19-EE0071E6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5B06-CFEE-4AF6-BE26-0084C23D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492-6550-449B-B94A-162A5720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CAC-461E-4FF8-9170-0005B0C8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A4B-F461-4A54-8CE7-8C1C1404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CB61-EBBD-458E-8385-57C117DA6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CHIMES.WAV"/><Relationship Id="rId4" Type="http://schemas.openxmlformats.org/officeDocument/2006/relationships/audio" Target="../media/GUNSHOT.WAV"/><Relationship Id="rId5" Type="http://schemas.openxmlformats.org/officeDocument/2006/relationships/audio" Target="../media/zapvib04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elicopter.wav"/><Relationship Id="rId2" Type="http://schemas.openxmlformats.org/officeDocument/2006/relationships/audio" Target="../media/jetflyby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WHOOSH.WAV"/><Relationship Id="rId3" Type="http://schemas.openxmlformats.org/officeDocument/2006/relationships/audio" Target="../media/zipdn102.wav"/><Relationship Id="rId4" Type="http://schemas.openxmlformats.org/officeDocument/2006/relationships/audio" Target="../media/zipdn102.wav"/><Relationship Id="rId5" Type="http://schemas.openxmlformats.org/officeDocument/2006/relationships/audio" Target="../media/jetflyby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jetflyby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jetflyby.wav"/><Relationship Id="rId16" Type="http://schemas.openxmlformats.org/officeDocument/2006/relationships/audio" Target="../media/zipdn102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zapbig0g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228600"/>
            <a:ext cx="6019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tes Over 10 - 1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600200"/>
            <a:ext cx="4267080" cy="1953000"/>
            <a:chOff x="990720" y="1600200"/>
            <a:chExt cx="4267080" cy="1953000"/>
          </a:xfrm>
        </p:grpSpPr>
        <p:sp>
          <p:nvSpPr>
            <p:cNvPr id="44" name=""/>
            <p:cNvSpPr/>
            <p:nvPr/>
          </p:nvSpPr>
          <p:spPr>
            <a:xfrm>
              <a:off x="990720" y="1600200"/>
              <a:ext cx="4267080" cy="1447920"/>
            </a:xfrm>
            <a:prstGeom prst="parallelogram">
              <a:avLst>
                <a:gd name="adj" fmla="val 73676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71800" y="16002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71800" y="2819520"/>
              <a:ext cx="228600" cy="2286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19810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6000" y="29718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4876920" y="1828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Times New Roman"/>
              </a:rPr>
              <a:t>A = </a:t>
            </a:r>
            <a:r>
              <a:rPr b="1" i="1" lang="en-US" sz="5400" spc="-1" strike="noStrike">
                <a:solidFill>
                  <a:srgbClr val="993300"/>
                </a:solidFill>
                <a:latin typeface="Times New Roman"/>
              </a:rPr>
              <a:t>b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3505320"/>
            <a:ext cx="5943600" cy="2562480"/>
            <a:chOff x="0" y="3505320"/>
            <a:chExt cx="5943600" cy="2562480"/>
          </a:xfrm>
        </p:grpSpPr>
        <p:sp>
          <p:nvSpPr>
            <p:cNvPr id="51" name=""/>
            <p:cNvSpPr/>
            <p:nvPr/>
          </p:nvSpPr>
          <p:spPr>
            <a:xfrm>
              <a:off x="0" y="3505320"/>
              <a:ext cx="510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3657600"/>
              <a:ext cx="3657600" cy="1828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19320" y="548640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 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91120" y="419112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50 c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343400" y="4724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5053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4(1.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44197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6 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45120" y="268776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5(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72200" y="344484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40 ft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65160" y="1903320"/>
            <a:ext cx="3414600" cy="3540240"/>
          </a:xfrm>
          <a:prstGeom prst="parallelogram">
            <a:avLst>
              <a:gd name="adj" fmla="val 24625"/>
            </a:avLst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600000">
            <a:off x="1096920" y="479592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600000">
            <a:off x="1714680" y="46508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27320" y="329256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74600" y="5005440"/>
            <a:ext cx="2482920" cy="39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70120" y="132552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5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30800" y="45450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0(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525924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00 in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65160" y="1903320"/>
            <a:ext cx="4154400" cy="3540240"/>
          </a:xfrm>
          <a:prstGeom prst="parallelogram">
            <a:avLst>
              <a:gd name="adj" fmla="val 28897"/>
            </a:avLst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11680" y="333684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70120" y="132552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16240" y="1919160"/>
            <a:ext cx="0" cy="3527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85840" y="521640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13000" y="32194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19280"/>
            <a:ext cx="8359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9.  Find the area of the parallelogram with base length 3 m and height 50 c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86080" y="33847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00(5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86160" y="418608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5,000 c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9080" y="16876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30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47920" y="228600"/>
            <a:ext cx="6019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tes Over 10 - 1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520" y="1066680"/>
            <a:ext cx="7619400" cy="1447920"/>
            <a:chOff x="533520" y="1066680"/>
            <a:chExt cx="7619400" cy="1447920"/>
          </a:xfrm>
        </p:grpSpPr>
        <p:sp>
          <p:nvSpPr>
            <p:cNvPr id="60" name=""/>
            <p:cNvSpPr/>
            <p:nvPr/>
          </p:nvSpPr>
          <p:spPr>
            <a:xfrm>
              <a:off x="533520" y="1676160"/>
              <a:ext cx="83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6160" y="1600200"/>
              <a:ext cx="6171840" cy="914400"/>
            </a:xfrm>
            <a:prstGeom prst="parallelogram">
              <a:avLst>
                <a:gd name="adj" fmla="val 168740"/>
              </a:avLst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85840" y="1600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9880" y="175248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 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5840" y="2286000"/>
              <a:ext cx="228240" cy="228600"/>
            </a:xfrm>
            <a:prstGeom prst="rect">
              <a:avLst/>
            </a:prstGeom>
            <a:noFill/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3040" y="10666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 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33960" y="18288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 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981080" y="2819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2 ( 8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35812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6 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elicop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47920" y="228600"/>
            <a:ext cx="6019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tes Over 10 - 1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Find the area of the shaded reg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38080" y="1523880"/>
            <a:ext cx="7543800" cy="3581280"/>
            <a:chOff x="838080" y="1523880"/>
            <a:chExt cx="7543800" cy="3581280"/>
          </a:xfrm>
        </p:grpSpPr>
        <p:grpSp>
          <p:nvGrpSpPr>
            <p:cNvPr id="72" name=""/>
            <p:cNvGrpSpPr/>
            <p:nvPr/>
          </p:nvGrpSpPr>
          <p:grpSpPr>
            <a:xfrm>
              <a:off x="838080" y="1523880"/>
              <a:ext cx="7543800" cy="3581280"/>
              <a:chOff x="838080" y="1523880"/>
              <a:chExt cx="7543800" cy="3581280"/>
            </a:xfrm>
          </p:grpSpPr>
          <p:sp>
            <p:nvSpPr>
              <p:cNvPr id="73" name=""/>
              <p:cNvSpPr/>
              <p:nvPr/>
            </p:nvSpPr>
            <p:spPr>
              <a:xfrm>
                <a:off x="5486040" y="3276360"/>
                <a:ext cx="1981440" cy="99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990360" y="3200400"/>
                <a:ext cx="2438280" cy="1066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838080" y="1523880"/>
                <a:ext cx="7543800" cy="3581280"/>
                <a:chOff x="838080" y="1523880"/>
                <a:chExt cx="7543800" cy="3581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990360" y="2057400"/>
                  <a:ext cx="6477120" cy="2209680"/>
                </a:xfrm>
                <a:prstGeom prst="rect">
                  <a:avLst/>
                </a:prstGeom>
                <a:solidFill>
                  <a:srgbClr val="00cc99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486040" y="3276360"/>
                  <a:ext cx="2590920" cy="175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38080" y="3200400"/>
                  <a:ext cx="2590560" cy="19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438280" y="1523880"/>
                  <a:ext cx="3809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2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171840" y="3124080"/>
                  <a:ext cx="1067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4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676160" y="3124080"/>
                  <a:ext cx="106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5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590560" y="3429000"/>
                  <a:ext cx="106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257440" y="3429000"/>
                  <a:ext cx="1067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314840" y="2286000"/>
                  <a:ext cx="1067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" name=""/>
            <p:cNvSpPr/>
            <p:nvPr/>
          </p:nvSpPr>
          <p:spPr>
            <a:xfrm>
              <a:off x="990720" y="320040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29000" y="320040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486400" y="327636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8640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90720" y="2057400"/>
            <a:ext cx="243828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286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057400"/>
            <a:ext cx="1981080" cy="1219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2057400"/>
            <a:ext cx="2057400" cy="2209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1911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343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A = 2 (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89" idx="1"/>
            <a:endCxn id="95" idx="1"/>
          </p:cNvCxnSpPr>
          <p:nvPr/>
        </p:nvCxnSpPr>
        <p:spPr>
          <a:xfrm flipV="1" rot="10800000">
            <a:off x="761400" y="2628000"/>
            <a:ext cx="229320" cy="20660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762120" y="5029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A =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4343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A = 2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1" idx="3"/>
            <a:endCxn id="98" idx="3"/>
          </p:cNvCxnSpPr>
          <p:nvPr/>
        </p:nvCxnSpPr>
        <p:spPr>
          <a:xfrm>
            <a:off x="7467480" y="2666880"/>
            <a:ext cx="153360" cy="2028240"/>
          </a:xfrm>
          <a:prstGeom prst="curvedConnector5">
            <a:avLst>
              <a:gd name="adj1" fmla="val 249882"/>
              <a:gd name="adj2" fmla="val 49991"/>
              <a:gd name="adj3" fmla="val 2498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562720" y="5029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A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724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= 3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2" idx="1"/>
            <a:endCxn id="101" idx="1"/>
          </p:cNvCxnSpPr>
          <p:nvPr/>
        </p:nvCxnSpPr>
        <p:spPr>
          <a:xfrm flipV="1" rot="10800000">
            <a:off x="3276000" y="3161880"/>
            <a:ext cx="153000" cy="1913760"/>
          </a:xfrm>
          <a:prstGeom prst="curvedConnector5">
            <a:avLst>
              <a:gd name="adj1" fmla="val 250000"/>
              <a:gd name="adj2" fmla="val 49990"/>
              <a:gd name="adj3" fmla="val 2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276720" y="5257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=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8672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= 12 + 10 +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5867280"/>
            <a:ext cx="37339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= 30 ft</a:t>
            </a:r>
            <a:r>
              <a:rPr b="1" lang="en-US" sz="3600" spc="-1" strike="noStrike" baseline="6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752480"/>
            <a:ext cx="2209680" cy="335304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8954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219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19520" y="25876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9(1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43560" y="3502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35 ft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4800600"/>
            <a:ext cx="304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00600"/>
            <a:ext cx="304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1752480"/>
            <a:ext cx="304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304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6320" y="117144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73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752480"/>
            <a:ext cx="2863800" cy="255924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91000" y="27813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219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89560" y="25876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13240" y="35020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 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57560" y="3914640"/>
            <a:ext cx="39204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913200"/>
            <a:ext cx="39204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57560" y="1766880"/>
            <a:ext cx="39204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752480"/>
            <a:ext cx="39204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2000" y="115884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79640" y="35305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50(2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21120" y="4286160"/>
            <a:ext cx="33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,000 c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0880" y="1933560"/>
            <a:ext cx="5852880" cy="1176480"/>
          </a:xfrm>
          <a:prstGeom prst="parallelogram">
            <a:avLst>
              <a:gd name="adj" fmla="val 81234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57840" y="1933560"/>
            <a:ext cx="0" cy="12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8080" y="221760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26000" y="193680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18000" y="14018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6600" y="1320840"/>
            <a:ext cx="1219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752480"/>
            <a:ext cx="6419880" cy="1994040"/>
          </a:xfrm>
          <a:prstGeom prst="rect">
            <a:avLst/>
          </a:prstGeom>
          <a:solidFill>
            <a:srgbClr val="ccffcc">
              <a:alpha val="9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34200" y="2416320"/>
            <a:ext cx="8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6440" y="1190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81160" y="45766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05200" y="549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 yd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13640" y="3349800"/>
            <a:ext cx="39204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48000"/>
            <a:ext cx="39204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13640" y="1752480"/>
            <a:ext cx="39204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52480"/>
            <a:ext cx="39204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16920" y="2421000"/>
            <a:ext cx="927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04960" y="418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23(16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46440" y="493884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68 ft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20880" y="1933560"/>
            <a:ext cx="4400280" cy="1670040"/>
          </a:xfrm>
          <a:prstGeom prst="parallelogram">
            <a:avLst>
              <a:gd name="adj" fmla="val 43023"/>
            </a:avLst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3560" y="1962000"/>
            <a:ext cx="0" cy="1640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5360" y="193680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3600" y="13860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24796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680" y="253044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04960" y="418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2(1.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46440" y="493884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 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1400" y="1933560"/>
            <a:ext cx="4574880" cy="1930320"/>
          </a:xfrm>
          <a:prstGeom prst="parallelogram">
            <a:avLst>
              <a:gd name="adj" fmla="val 58361"/>
            </a:avLst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15080" y="1947960"/>
            <a:ext cx="0" cy="190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83240" y="363528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51000" y="14000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7440" y="255276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29160" y="3860640"/>
            <a:ext cx="1290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9:58:55Z</dcterms:created>
  <dc:creator>CCSS</dc:creator>
  <dc:description/>
  <dc:language>en-US</dc:language>
  <cp:lastModifiedBy>damon.skelton</cp:lastModifiedBy>
  <dcterms:modified xsi:type="dcterms:W3CDTF">2004-03-15T20:04:29Z</dcterms:modified>
  <cp:revision>3</cp:revision>
  <dc:subject/>
  <dc:title>No Slide Title</dc:title>
</cp:coreProperties>
</file>